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3F000-303B-40B4-9D58-2F2E085A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31B54-7AFC-4EAC-949C-39C10C52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3A8406-94AC-445A-9E6F-2FC52CAC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9F21A-9247-42D7-B4BF-680571A6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AD361-B4DC-477C-94AA-19BAAA86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B7F9B-E9CD-4822-8265-E3E69043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13875-45F2-41F9-921A-A1EFF43E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EF719-8EC9-459C-815D-0E3E5455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DB0BF-E07E-43A1-9846-23F9582A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E29E3-23EC-42B1-8301-8B1CB6CB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AC1B7-B864-4878-89BE-BCB39715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9DCF9-5A84-4051-8485-EBA282A7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33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4c2b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8672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AISC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c2b"/>
                </a:solidFill>
                <a:latin typeface="Tahoma"/>
              </a:rPr>
              <a:t>CIS/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1143000"/>
            <a:ext cx="3810240" cy="0"/>
          </a:xfrm>
          <a:prstGeom prst="line">
            <a:avLst/>
          </a:prstGeom>
          <a:ln w="76320">
            <a:solidFill>
              <a:srgbClr val="5789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8080" y="5943600"/>
            <a:ext cx="1752840" cy="742680"/>
            <a:chOff x="838080" y="5943600"/>
            <a:chExt cx="1752840" cy="742680"/>
          </a:xfrm>
        </p:grpSpPr>
        <p:sp>
          <p:nvSpPr>
            <p:cNvPr id="7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8080" y="636444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6680" y="636444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2200" y="5943600"/>
              <a:ext cx="43920" cy="55116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080" y="6655320"/>
              <a:ext cx="92880" cy="309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0240" y="6658560"/>
              <a:ext cx="8784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45720" y="617256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07360" y="621576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23444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61880" y="6215760"/>
              <a:ext cx="78120" cy="11772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440000" y="621576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721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616400" y="621576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753560" y="6172560"/>
              <a:ext cx="38880" cy="1609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756080" y="6175440"/>
              <a:ext cx="3420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812240" y="6215760"/>
              <a:ext cx="107640" cy="11772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92996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228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267640" y="6215760"/>
              <a:ext cx="112320" cy="117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3900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135520" y="617256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137680" y="6219000"/>
              <a:ext cx="3420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137680" y="6175440"/>
              <a:ext cx="34200" cy="244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179440" y="618480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473560" y="6215760"/>
              <a:ext cx="117360" cy="11772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507760" y="624060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04364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77840" y="643248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61000" y="636444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636444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1880" y="64018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89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6400" y="63644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8520" y="640188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709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05480" y="643248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98360" y="6364440"/>
              <a:ext cx="38880" cy="1544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00880" y="6367680"/>
              <a:ext cx="34200" cy="14832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047320" y="64018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81520" y="643248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74760" y="640188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08960" y="643248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7160" y="640764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71F1-7484-41B3-968B-05790D4C6D2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2960" y="304200"/>
            <a:ext cx="47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ahoma"/>
              </a:rPr>
              <a:t>Connection Flavor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1564560"/>
            <a:ext cx="6477120" cy="23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  <a:ea typeface="MS Mincho"/>
              </a:rPr>
              <a:t>Chuck Eastman, driven by John Manua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333333"/>
                </a:solidFill>
                <a:latin typeface="Times New Roman"/>
                <a:ea typeface="MS Mincho"/>
              </a:rPr>
              <a:t>how to associate fabrication-level detail information to a connection, based on the practices of the fabricator and/or engineering fir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lavorslide1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91240" cy="4762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9480" y="37980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Logical structure of a connection and its attribut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51040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34120" y="4800240"/>
            <a:ext cx="213336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457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ion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4952880"/>
            <a:ext cx="457200" cy="3812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onectionflavorslide2" descr=""/>
          <p:cNvPicPr/>
          <p:nvPr/>
        </p:nvPicPr>
        <p:blipFill>
          <a:blip r:embed="rId2"/>
          <a:stretch/>
        </p:blipFill>
        <p:spPr>
          <a:xfrm>
            <a:off x="2133720" y="1905120"/>
            <a:ext cx="4332240" cy="452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80880" y="222372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Reference to the item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2590920"/>
            <a:ext cx="609480" cy="2286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260460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Connection flavor library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77120" y="2971800"/>
            <a:ext cx="4572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82880" y="37980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Associating the connection to the flavor libra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10663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Parent of assembly_design_ structural_connection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952520" y="1371600"/>
            <a:ext cx="762120" cy="5335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0480" y="1980000"/>
            <a:ext cx="18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Joint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86728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5019840" cy="2884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905120" y="2286000"/>
            <a:ext cx="457200" cy="8380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009920" y="2438280"/>
            <a:ext cx="6858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9036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assembl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3732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nnectedmemb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10280" y="3352320"/>
            <a:ext cx="533520" cy="7621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676520" y="1905120"/>
            <a:ext cx="58672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8" name="flavorslide3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5187960" cy="17398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0" y="2819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362320" y="2971800"/>
            <a:ext cx="38088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46468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specifi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7689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tructural member part instance loc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05720" y="2742840"/>
            <a:ext cx="304560" cy="2133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840" y="380160"/>
            <a:ext cx="77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Which Members Does a Connection Connect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3:40:57Z</dcterms:created>
  <dc:creator>Eastman</dc:creator>
  <dc:description/>
  <dc:language>en-US</dc:language>
  <cp:lastModifiedBy>CHUCK</cp:lastModifiedBy>
  <dcterms:modified xsi:type="dcterms:W3CDTF">2001-11-02T08:37:56Z</dcterms:modified>
  <cp:revision>5</cp:revision>
  <dc:subject/>
  <dc:title>No Slide Title</dc:title>
</cp:coreProperties>
</file>